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BA9-B410-43CC-9D4D-4F1ABAEF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149-BF54-464D-BCFA-1DC4726D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0EE-672F-4FAA-A081-ECA8DC9E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04A-C8FE-45E3-B28D-DE3CE650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F35-87F1-4076-858F-C81B9338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123-7A37-459A-BC52-BFA284F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2F0-7C34-4F72-8B0F-10AEA0A3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B02-7077-4554-9414-2D8AE7E7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925-09B6-4B52-B61A-70CDBBC5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794-6227-4FEE-8CEC-2F82F35B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CA2-33A2-49E8-BE72-91159B9F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791-68D1-40D4-B0BE-280E738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D756-5CE0-4F95-8382-01BF42385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5208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eeeee"/>
                </a:solidFill>
                <a:latin typeface="verdana"/>
              </a:rPr>
              <a:t>Chado on Rail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840" y="2437920"/>
            <a:ext cx="9434520" cy="69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a framework to simplify development on the Chado sche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Justin Reese / Chris Chil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Quick rails anatomy les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64560" cy="71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odel files live in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models/[model_name]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ontroller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controllers/[model_name]_controller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View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views/[model_name]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One important config fil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config/database.yml - describes db con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Legacy Chado support - things to chan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6456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"Feature" model as an 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look for features in table "feature", not table "features"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table_name "feature"  #default is "featu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use "feature_id" not "id" as primary ke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primary_key "feature_id"   # default is "i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rebuchet ms"/>
              </a:rPr>
              <a:t>Repeat for each Chado tables we wil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Hooking up tables to each other ("associations"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32040"/>
            <a:ext cx="96645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Feature -- belongs to --&gt; 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vterm &lt;-- has many -- 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as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belongs_to :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cvterm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has_many :features, :foreign_key =&gt; "type_id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88056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We now have a powerful Chado conso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69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xample: show me the name of the CV for the last thing loaded into Chado feature 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(try out by starting up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 trunk/script/console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)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Before, using SQL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SELECT cv.name FROM cv, cvterm, feature WHERE cv.cv_id = cvterm.cv_id AND cvterm.cvterm_id = feature.type_id ORDER BY feature_id DESC LIMIT 1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fter, using Rail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Feature.find(:last).cvterm.cv.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Example app: 5 min. Chado gene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4224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model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don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controlle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make controller, write method to load up gene of interest into variabl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[~/chado_on_rails/trunk] jtr4v$ ./script/generate controller 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controll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views/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functional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unit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controllers/gene_controll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functional/gene_controller_test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helpers/gene_help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unit/helpers/gene_helper_test.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then add this to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controllers/gene_controller.rb: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def sh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   </a:t>
            </a: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@gene = Feature.find(params[:id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view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add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views/gene/show.html.erb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, present some gene info to user (next sli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Simple view for gene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6160" y="1320480"/>
            <a:ext cx="966456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header'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if @gene.nil?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There is no record for feature id &lt;%= params[:id]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lse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ul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Name: &lt;%= @gene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Uniquename: &lt;%= @gene.unique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Feature id: &lt;%= @gene.feature_id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Cvterm: &lt;%= @gene.cvterm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Organism: &lt;%= "#{@gene.organism.genus} #{@gene.organism.species}"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Time last modified: &lt;%= @gene.timelastmodified %&gt;&lt;/li&gt; 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/ul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nd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br/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footer' %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10152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Chado on Rails + Chado db + 19 lines of code = gene page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1520" y="2844720"/>
            <a:ext cx="9925200" cy="658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81360" y="1622520"/>
            <a:ext cx="7921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http://0.0.0.0:3000/gene/show/1703004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10116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Mature BGD genes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http://genomes.arc.georgetown.edu/bovine/genepages/genes/BT1060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6440" y="18288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20268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es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680" y="1112400"/>
            <a:ext cx="9786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ships with sophisticated testing suite (a whole other tal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on Rails contains unit tests for associations, other reality chec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Easy to add more sophisticated tests (functional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rake 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7680" y="4064040"/>
            <a:ext cx="9671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Cach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8840" y="5181480"/>
            <a:ext cx="932004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dd one line in controller to cache gene page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caches_page :sh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-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More sophisticated caching (expire cache after x days, caching expensive queries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Deployment - a non-iss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Used to be a major weakness of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Passenger Phusion + Capistrano provide dead-easy deployment, plays nicely with Apache and Ngin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Fairly easy to set up staging environments to try out new rele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6160" y="406080"/>
            <a:ext cx="967104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Some links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726920"/>
            <a:ext cx="1021248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These sl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http://tinyurl.com/chadoon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Source code, have a l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vn co http://chadoonrails.rubyforge.org/svn/trunk</a:t>
            </a:r>
            <a:r>
              <a:rPr b="0" lang="en-US" sz="2900" spc="-1" strike="noStrike">
                <a:solidFill>
                  <a:srgbClr val="cccccc"/>
                </a:solidFill>
                <a:latin typeface="courier ne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Other applications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710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Powerful framework for the development of applications on top of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Ideas for possible application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elp available from me, Chris, Rails community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ttp://rubyforge.org/projects/chadoonrails/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there's another dead project by the same nam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Justin Ree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ustaddcoffee@gmail.co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Chris Childer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genetics.guy@gmail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Thank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78000" y="182880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Chil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Elsi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ay Sundara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arren Ha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Monica Mu</a:t>
            </a:r>
            <a:r>
              <a:rPr b="0" i="1" lang="en-US" sz="2700" spc="-1" strike="noStrike">
                <a:solidFill>
                  <a:srgbClr val="cccccc"/>
                </a:solidFill>
                <a:latin typeface="Arial"/>
              </a:rPr>
              <a:t>ñoz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Torr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teve S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nna Benne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hu Ta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on V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he Big Ide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8040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  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databa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de facto standard in bioinformatic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   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            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                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          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  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on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      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    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Your applic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gene pages, GFF loader, anything that needs to talk to Cha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6160" y="203040"/>
            <a:ext cx="9671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is time last year..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080" y="1108080"/>
            <a:ext cx="965700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Bovine Genome Database status tal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cccc"/>
                </a:solidFill>
                <a:uFillTx/>
                <a:latin typeface="Trebuchet MS"/>
              </a:rPr>
              <a:t>no gene pa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27280" y="1727280"/>
            <a:ext cx="62863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How to implement gene pages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couldn't find existing tool that fit ou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roll our own?</a:t>
            </a: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use Ruby on Rai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203040"/>
            <a:ext cx="96724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e case for Ruby on Rail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" y="1117080"/>
            <a:ext cx="10109520" cy="64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implement object-relational mapping for Chado database schema as legacy sche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what we then get for fre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ature MVC framework for fast web development on top of 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Rake tasks (a powerful tool for automating tasks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apistrano (another powerful tool for deployment, automating tasks)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Powerful debugging (stop request in stack wherever you wa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Sophisticated testing su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uch more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BGD, Beebase, HymenopteraBase, other groups can build on th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ub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631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"Perl's younger prettier sister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syntactic suga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, easy metaprogramming, pure object-oriented language, other sundry awesome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great 15 minute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tryruby.org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funny, longer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mislav.uniqpath.com/poignant-guide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ails legacy database supp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724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paradigm: "convention over configuration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Model name "Feature" == table name "feature</a:t>
            </a:r>
            <a:r>
              <a:rPr b="1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s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doesn't follow Rails conv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Feature model == Chado table name "feature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Legacy support for Chado means overriding these conventions, explaining to Rails how to talk to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MVC paradig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320840"/>
            <a:ext cx="6377040" cy="371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80" y="4673520"/>
            <a:ext cx="1020780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Model - the representation of your data (doesn't change much after develop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Controller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"business logic", i.e. the logic to retrieve and process information coming and going from view (changes more seldo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View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presentation of information to user (changes every 3 second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